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44B-354E-4849-AE4E-FB8C7970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998-D2D3-419E-AEFE-C6C8200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E7B-C26B-47BB-8227-10BF1C2F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4D8-300F-4EA4-ADAD-0D0A5587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C23-5B86-4948-A9E6-C38B30FA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12C-898A-45DE-A2EC-341CA71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885-486E-4E1E-8C08-F8DB5E0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457-A24A-4BE8-9B9D-4934D8F9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348-DEC7-411D-9CBF-24584B6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7F3-29F3-4C65-A893-FCB8722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C0F-D779-42D9-A8CE-3E79750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92E-3028-48E5-895D-D050919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CDC-BD4D-4ACA-A3E6-74518A667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das.org.rs/tue/zahtev-za-misljenje-o-leku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das.org.rs/tue/tue-obrazac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и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РАПИЈСКИ ИЗУЗЕЦИ У СПОРТ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екови који служе за лечење болести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које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ви лекови који служе за лечење болести за које се одобрава TUE могу код здравог спортисте да служе као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лукокортикостероид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е налазе у терапији више болести с ове листе, али највећи проблем је њихова честа несистемска употреба без оправданих медицинских индикација, која може довести до штетног еф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естостер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је лек који је, осим за лечење хипогонадизма, нашао примену и злоупотребу код младих људи жељних мишићав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иуретиц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у супстанце које се најчешће користе у спортовима с тежинском категоријом, где је циљ скидање вишка килограма за што краћи временски пери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екови који служе за лечење болести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које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бутамо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о бета-2 агонист ефикасан је у лечењу астме, али га због бронходилататорног ефекта често злоупотребљавају спринт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ритропоет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ужи за поправљање анемије и повећање броја еритроцита, а самим тим побољшава кисеонички капацитет, па га бициклисти често употребљавају као доп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сихостимулан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одафинил, којим се лечи нарколепсија, и метилфенидат или амфетаним, којима се лечи хиперактивност – користе се као допинг јер спортисти дају снагу, оштрину и побољшавају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мон рас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пуларно назван извор младости или убица масти, често у спортским круговима служи за добијање мишићне масе заједно с тестостеро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ијерархија одобравања TUE између антидопинг орган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тањ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је увек актуелно, посебно због односа између интернационалних федерација (IF) и националних антидопинг организација (NAD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аном 4.4.3.1 новог Светског антидопинг кодекса (2015) дефинише се признавањ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да спортиста већ има TUE који је одобрила његова NADO и ако TUE испуњава критеријуме Интернационалних стандард за TUE, онда IF мора да га приз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ђутим, уколико IF сматра да TUE не испуњава критеријуме и одбије да га призна, мора о томе да обавести спортисту и његов NADO, с одговарајућим образложе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ирамида одобравања TUE између антидопинг орган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473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је увелико варирао и највећи број је забележен 2010. и 2011. године, када је локална примена глукокортикостерида и бета-2 агониста захтевала пријаву декларације о употреби (више није у употреби, а обухватала је скраћен процес добијањ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 одређене лек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6023160" cy="3272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14520" y="6237360"/>
            <a:ext cx="365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 2007. године, однос мушкараца и жена који су пријављива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носи 66% наспрам 3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ечна старост спортиста у тренутку пријав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била је 25 ± 7, а опсег година се кретао од 14 до 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6102360" cy="2120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2854440" y="6093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ја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ма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т спортова (од укупно 26) који су имали највећи број пријава TUE од 2007. године јесу: кошарка, фудбал, веслање, рвање и ватерп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ог за овакву расподелу налазимо превасходно у масовности тих спортова у Србији, али и у нивоу такмичења на које ови спортисти одл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5999" t="0" r="0" b="0"/>
          <a:stretch/>
        </p:blipFill>
        <p:spPr>
          <a:xfrm>
            <a:off x="1325520" y="3213000"/>
            <a:ext cx="6415200" cy="364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869640" y="30686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ј пријављених TUE по спор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заступљеније дијагнозе због којих су спортисти морали да пријаве TUE биле су из групе инфламаторних стања локомоторног апарата, од тога 17% ентезитиси, тендинитиси и фасцит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стма и лумбални синдром се налазе на другом и трећем месту по броју пријава TUE с учесталошћу од 14% и 1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328760" y="2565360"/>
            <a:ext cx="6195960" cy="417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732720" y="4869000"/>
            <a:ext cx="22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а стања која су захтевала пријаву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таметазон, дексаметазон и метилпреднизолон су три најчешће забрањене супстанце које лекари преписују као део терапије у лечењу спортиста и налазе се у преко 50% сви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приј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95160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721960" y="24210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брањене супстанце у пријавама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ац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765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2013. години глукокортикоиди такође представљају најзаступљеније забрањене супстанце за које су спортисти тражили одобрењ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лику разлику у односу на Србију чини много већи број стимуланса за које је пријављен TUE - највише због дијагнозе поремећаја пажње, која код нас није забележена код спорти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384960" y="278136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ализа пријава T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 свету у 2013. го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050920" y="1924200"/>
            <a:ext cx="5391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а Светском антидопинг кодексу, спортисти су одговорни за присуство било ког забрањеног средства или његових метаболита и маркера у њиховом телесном узор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жност сваког спортисте је да се побрине за то да ниједна забрањена супстанца не уђе у његово т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, као и сви други људи, имају право да се разболе или повреде и да се у току болести ле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оно што их разликује од осталих је немогућност примене лекова или терапијских процедура без консултације са стручним медицинским особљ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 подлежу редовним допинг контролама и морају водити рачуна о томе да ли се средства која узимају налазе на Листи забрањених допинг супстанци или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Aнтидопинг агенција Немачкe годишње обради и д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5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TUE, а Антидопинг агенција Републике Србије ок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т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 ли су наши спортисти толико здравији од осталих у с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мају навику и културу пријављивања употребе забрањених супстанци у терапијске сврх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сада је било случајева да су спортисти проглашени допинг позитивним и кажњени јер је код њих откривено присуство забрањених супстанци које су користили као лекове, али нису то пријав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ашој земљи едукација спортиста и осталих спортских радника још увек на недовољно развијеном нив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аље је веома важна улога тимских лекара и медицинског стручног тима како би се број пријава TUE повећао у складу с реалним бројем индикација који постоји међу нашим спорти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 неке светске антидопинг организације број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оти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TUE 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ишњ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ивоу, у нашој земљи је анализиран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јава то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је јасан показатељ да је едукација о значају пријаве TUE и даље један од приоритета АД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ја је да спортисти заједно са својим стручним тимом поднесу захтев за TUE пре узимања лека, а лек почну да пију тек када за то добију одобрење од надлежне инстит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потреба лекова са аспе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557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 пријаве TUE је пре свега постављен да би заштитио спортисте од нежељених ефеката забрањених супстанци које се налазе у лековима, али такође да би онемогућио да спортисти злоупотребе лекове у циљу побољшања спортских 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ђутим, спортисти треба да знају да је највећи број лекова које користе у свакодневном животу дозвољен и да у себи нема забрањених супстан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ртисти такође морају бити опрезни при куповини препарата и лекова у иностранству, јер се састав истог препарата може разликовати у различитим земљ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АС је спортистима омогућила да брзо и сигурно сазнају да ли се у неком леку налазе забрањене супстанце, тако што ће попунити Мишљење о леку на сајту агенције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das.org.rs/tue/zahtev-za-misljenje-o-leku/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ме је уједно направљена база питања и одговора о лековима за које се највише тражило мишљење о присуству забрањене супстанц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кови за прехла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го треба водити рачуна о препаратима за прехладу који у себи имај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сеудоефедр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јер он спаде у групу стимуланс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такмиче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и од тих лекова су дефринол, аспирин комплекс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affetin Cold, ринасе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глукокортикои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2016. години је приме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окал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лукокортикоида била дозвољ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брањени су глукокортикоиди ако се примењују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рални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равенским, интрамускуларним или ректални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лека у виду спреја, гелова и кр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пичка примена (апликација лека у виду спреја, крема, гелова и масти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јесте дозвоље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захтева пријаву Изузетка за терапеутску употре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чешће је реч о лековима који у себи имају глукокортикоиде и њихова локална примена није забрањ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топичка и локална примена лекова који у себи имају супстанце са забрањене листе може довести до допинг позитивног резултата и захтева висок степен опр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лека у виду спреја, гелова и кр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мер из пракс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лучај допинг позитивног спортисте код нас који је користио ле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инофлуимуци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цетилцистеин и туаминохептан) у виду назалног спреја навео је лекаре и фармацеуте да обавесте све спортисте о могућим последицама коришћења лека без лекарског надзора и консултовања АД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кутији овог лека, као и у његовом упутству, јасно је назначено да садржи допинг супстанц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аминохепт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ја прем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брањеној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листи спада у групу стиму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ако је спортиста користио овај лек у виду назалног спреја, ресорпција лека је била значајна, и довела је до системског деловања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пинг позитивног случ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  Примена бета-2 агониста у терапији аст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брањени су сви бета-2 агонисти, укључујући оба оптичка изомера (нпр. d- и l-), оси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бутам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инхалаторним путем (максимално 1600 микрограма током 24 h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отер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инхалаторним путем (максимално 54 микрограма током 24 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метер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путем инхалације, у складу с препорученим терапијским протоколом произвођ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 значи да терапијска примена салбутамола (Вентолин), формотерола и салметерола није забрањена, али је потребна пријав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TUE за фенотерол (Беродуа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суство салбутамола у урину у концентрацији већој од 1000 ng/ml или формотерола у концентрацији већој од 40 ng/ml сматраће се неповољним аналитичким налазом, а не последицом терапијске приме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осталих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16000" y="1268280"/>
          <a:ext cx="6840720" cy="5191200"/>
        </p:xfrm>
        <a:graphic>
          <a:graphicData uri="http://schemas.openxmlformats.org/drawingml/2006/table">
            <a:tbl>
              <a:tblPr/>
              <a:tblGrid>
                <a:gridCol w="4121280"/>
                <a:gridCol w="271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вотрил (лек за епилепсију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фт (антидепресив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толин-инхалаторно, терап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родуал (фонотерол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отребан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ffetin 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сеудоефедрин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био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хистаминици (пресинг, аериус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агра, Циали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цептивне пил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onex, Olyn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рино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irin Compl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a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реналин – адреналин је дозвољен 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мо онда када се комбинује с локалним анестетицима или кад је локално примење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зално и у офтамологиј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лергије и алергијски ринитис – акривастин, цетиризин, хлорфенамин, деслоратадин, фексофенадин, левоцетиризин, лоратадин, мизоластин, оксиметазолин, прометазин, натријум хромогликат, ксилометазо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тикостероиди – (на пример, беклометазон, будесонид, дексаметазон, флутиказон и мометазон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у форми капи за очи или за нос и у облику назалних спреј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биотици – сви антибиотски лекови 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стма – ипратропијум, монтелукаст, натријум кромогликат, теофил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лбутамол, формотерол и салметеро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искључиво у препорученим терапијским доз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Констипација (затвор) – бизакодил, течни парафин, метилцелулоза, сена, натријум пикосулф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   Кашаљ, прехлада – кофеин, кодеин, оксиметазолин, парацетамол, фенилефрин, фенилпропраноламин, фолкодин, инхалације паром и раствором ментола, ксилометазо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пресија – амитриптилин, доксепин, есциталопрам, флуоксетин, флупентиксол, имипрамин, лофепрамин, нортриптилин, пероксетин, сертралин, венлафакс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јареја, пролив – атропин, дифеноксилат, лоперамид, пробиоти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ови у лечењу инфекција уха – хлорамфеникол, клиокуинол, клотримазол, гентамицин, неомицин, натријум докусат;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ртикостероиди су дозвољени у облику капи за уш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љивичне инфекције – амфотерицин, клотримазол, еконазол, флуконазол, итраконазол, кетоконазол, моконазол, нистатин, тербинафин, толнафт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и с хемороидима – безокаин, бизмут субгалат, цинхокаин и лидокаин; Топични препарати у виду крема и масти, који садрже кортикостероиде, као што су беклометазон, бетаметазон, клобетазол и хидрокортизо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и с варењем – атропин, калцијум карбонат, медицински угаљ, циметидин, фамотидин, ланзопразол, мебеверин, месалазин, омепразол, парацетамол, ранитидин, сулфасал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кални анестетици – сви локални анестетиц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(осим кокаи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хтев за изузеће за терапеутску употребу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UE, енг. Therapeutical Use Exemp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хтев з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зузеће за терапеутску употреб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а подноси у случају када постоји индикација за коришћење супстанци и метода с Листе забрањених средстава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бог болести или повред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U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лужи да спортисту ослободи опасности проглашења допинг позитивним, у току или ван такми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 спортисти имају право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ли постоје јасне индикације за његово одобра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700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грена – хлороквин, доксицилин, мефлоквин, прогван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ови који се користе назално – акривастин, левокабастин, оксиметазолин, фенилефрин, натријум хромогликат, ксилометазолин; Кортикостероиди у виду капи за нос и спреја (беклометазон, флутиказон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за употре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ални контрацептиви – десогестрел, дроспиренон, етинилестрадиол, етинодиол, гестоден, левоноргестрел, местранол, норетистерон, норгестим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алгетици и антиинфламаторни лекови – нестероидни антиинфламаторни лекови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: аспирин, целецоксиб, кодеин, диклофенак, дихидрокодеин, еторикоксиб, ибупрофен, кетопрофен, напроксен, парацетамол, пироксикам, трамадол, валдекокси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773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арати за кожу – топичне креме и намази, који садрже у себи кортикостероид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саница – апразола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јазепам, дифенхидрамин, нитразепам, мелатонин (само уз рецепт), темазепам, зопикл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ла грла – септолете и раствори за локално испирање гр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кцинација – све вакцине су дозвоље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русне инфекције – ацикловир, фамцикловир, идоксуридин, пенциклови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чнина и повраћање – цинаризин, циклизин, домперидон, хиосцин, меклозин, метоклопрамид, прохлорперазин, промет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UE образа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452600" y="3357720"/>
            <a:ext cx="61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das.org.rs/tue/tue-obraza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ритеријумима под којима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о стање спортисте је дијагностиковано у складу с постојећим међународним стандардима и верификовано одговарајућом медицинском документациј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стоји адекватна терапијска алтернатива забрањеној допинг супстанци и/или методу за лечење медицинског стања спорти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зимање забрањених допинг супстанци или непримењивање метода током третирања неког акутног или хроничног медицинског стања значајно би погоршало здравље спорти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апијско коришћење забрањених допинг супстанци и/или метода неће изазвати никакво додатно побољшање способности спортисте осим оног које би се могло очекивати услед враћања у нормално здравствено стање након третирања легитимног медицинског стања. Коришћење забрањених супстанци и/или метода у циљу повећања нивоа ниских/нормалних вредности ендогених хормона неће се сматрати оправдан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пходност коришћења забрањених допинг супстанци и/или метода није, у потпуности нити делимично, последица њиховог претходног нетерапеутског коришћ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6322" t="22269" r="29724" b="10797"/>
          <a:stretch/>
        </p:blipFill>
        <p:spPr>
          <a:xfrm>
            <a:off x="826920" y="981000"/>
            <a:ext cx="7669440" cy="5348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22000" y="4046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 одобравања T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 одобравањ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неће бити одобрен уколико тражена примена забрањеног допинг средства или методе служи прикривању дејства претходне повреде антидопинг правила, посебно употребе забрањене допинг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потврђује Одбор за одобравање изузетака за терапеутску употребу антидопинг агенције, на одређени временски пери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а је дужан да Одбору за TUE достави захтев за одобравање TUE најкасније 30 дана пре следећег спортског такмичења на којем жели учествовати, односно у фази тренинга, пре давања забрањеног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хтев за одобрење TUE (где су сви подаци строго поверљиви) мора бити поднет у оригиналу, јасно и читко попуњен, уз сву потребну медицинску документацију (стручно мишљење лекара, историја болести, резултати лабораторијских испитивања и дијагностичких процедура, актуелна медикација и образложење зашто дозвољене супстанце нису адекватна зам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цес одобравања T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4920" y="1557360"/>
            <a:ext cx="8302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бор за TUE се у задатом року изјашњ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о одобри изузеће за терапеутску употребу, национална антидопинг агенција обавештава о томе Светску антидопинг агенцију, надлежну међународну и националну спортску асоциј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ње за TUE се може издати и ретроактивно, само у изузетним ситуацијама када постоји потреба за ургентном применом забрањених супстанци и метода (на пример, трансфузија код искрваре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е јасно одређене болести које се третирају медикаментима и терапијским процедурама које се налазе на Листи забрањених допинг супстанци, и њихова примена спортисту обавезује да затражи одобрење за 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бор за T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557360"/>
            <a:ext cx="8302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обрава Одбор за одобравање изузетака за терапеутску употребу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 има девет чланова који се именују на период од две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дседника и члан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именује и разрешава Управни одбор Антидопинг агенције на предлог директора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 чла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може бити именован само лекар специјалиста, са искуством у раду са спортистима и знањем у области клиничке, спортске медицине и физиологије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ећина члан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одбора не смеју имати било какву званичну функцију или бити запослени у Антидопинг аген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Одбор усваја закључке и доноси пословник о свом раду већином гласова од укупног броја чла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УЕ Одбор поднoси гoдишњи извештај o свoм раду Управнoм oдбoру Антидo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лести за које спортиста мора да тражи одобрење TUE због коришћења забрањене супстанце као л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22962" t="17347" r="37743" b="9813"/>
          <a:stretch/>
        </p:blipFill>
        <p:spPr>
          <a:xfrm>
            <a:off x="1908000" y="896760"/>
            <a:ext cx="56167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7:50Z</dcterms:modified>
  <cp:revision>192</cp:revision>
  <dc:subject/>
  <dc:title>ФИЗИОЛОГИЈА КРВИ</dc:title>
</cp:coreProperties>
</file>