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93FE-E1C3-47AE-8663-A91B70AD0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645E-08EB-45CF-B52C-223DC6B5C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8797-5EEE-4CE6-9189-3684678C3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2DEA-C909-43A7-AE4E-6BBA91183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E18B-2777-4CB7-90A0-78AF01935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86B0-D390-4916-90A2-0FD40A436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D99D-C5E7-43FB-B583-2C37D49A7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2410-D7CA-4791-A82D-E7FF0E5A0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0F22-101C-4368-BC2D-34A561502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55C3-9723-49DB-A1D6-51A5E270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8948-392E-424D-BB87-27C12C05E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4F97-2DFD-4CBD-907A-1F64DD8E1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52105-E586-43B4-A93B-D707B77518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52320" y="2409480"/>
            <a:ext cx="7772400" cy="425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3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. вежба:</a:t>
            </a:r>
            <a:br>
              <a:rPr sz="28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Анализа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UE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у Србији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835280" y="33336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2294640" y="1197000"/>
            <a:ext cx="44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Интегрисане академске студије фарма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2124000" y="1579680"/>
            <a:ext cx="46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РЕДМЕТ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ПОРТСКА ФАРМ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82296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нализа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TUE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 Србији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(АДАС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1116000" y="2781360"/>
            <a:ext cx="6951600" cy="34099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8"/>
          <p:cNvSpPr/>
          <p:nvPr/>
        </p:nvSpPr>
        <p:spPr>
          <a:xfrm>
            <a:off x="2008440" y="2060640"/>
            <a:ext cx="533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Забрањене супстанце у пријавама T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390600" y="1699920"/>
            <a:ext cx="8362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ко, с друге стране, погледамо доступну статистку коју води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DA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 пријавам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UE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светском нивоу у 2013. години, видећемо да глукокортикоиди такође представљају најзаступљеније забрањене супстанце за које су спортисти тражили одобрење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U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елику разлику у односу на Србију чини много већи број стимуланса за које је пријављен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UE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то највише због дијагнозе поремећаја пажње, која код нас није забележена код спортис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днос пријављених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TUE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од нас и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 свет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395280" y="1700280"/>
            <a:ext cx="83628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Aнтидопинг агенција Немачкe годишње обради и до 4500 TUE, а Антидопинг агенција Републике Србије око 2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Питања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а ли су наши спортисти толико здравији од осталих у свет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једноставно немају навику и културу пријављивања употребе забрањених супстанци у терапијске сврх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о сада је било случајева да су спортисти проглашени допинг позитивним и кажњени јер је код њих откривено присуство забрањених супстанци које су користили као лекове, али нису то пријавил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днос пријављених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TUE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од нас и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 свет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Анализа TUE у Србиј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79280" y="1413000"/>
            <a:ext cx="410544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Анализа 200 TUE пријава у Србији у претходних осам година показал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је да је едукација спортиста и осталих спортских радника још увек на недовољно развијеном нивоу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 даље је веома важна улога тимских лекара и медицинског стручног тима како би се број пријава TUE повећао у складу с реалним бројем индикација који постоји међу нашим спортистим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7" descr="Ð ÐµÐ·ÑÐ»ÑÐ°Ñ ÑÐ»Ð¸ÐºÐ° Ð·Ð° Therapeutic Use Exemptions (TUEs)"/>
          <p:cNvPicPr/>
          <p:nvPr/>
        </p:nvPicPr>
        <p:blipFill>
          <a:blip r:embed="rId1"/>
          <a:stretch/>
        </p:blipFill>
        <p:spPr>
          <a:xfrm>
            <a:off x="4932360" y="1341360"/>
            <a:ext cx="380988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215640" y="1699920"/>
            <a:ext cx="4716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Док неке светске антидопинг организације броје стотине TUE на годишњем нивоу, у Србији се анализира 200 пријава током 8 година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То је јасан показатељ да је едукација о значају пријаве TUE и даље један од приоритета АДАС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Идеја је да спортисти заједно са својим стручним тимом поднесу захтев за TUE пре узимања лека, а лек почну да пију тек када за то добију одобрење од надлежне институције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2068920" y="476280"/>
            <a:ext cx="466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Arial"/>
                <a:ea typeface="Arial"/>
              </a:rPr>
              <a:t>Анализ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UE</a:t>
            </a:r>
            <a:r>
              <a:rPr b="1" lang="sr-RS" sz="3200" spc="-1" strike="noStrike">
                <a:solidFill>
                  <a:srgbClr val="000000"/>
                </a:solidFill>
                <a:latin typeface="Arial"/>
                <a:ea typeface="Arial"/>
              </a:rPr>
              <a:t> у Србиј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Ð ÐµÐ·ÑÐ»ÑÐ°Ñ ÑÐ»Ð¸ÐºÐ° Ð·Ð° Therapeutic Use Exemptions (TUEs)"/>
          <p:cNvPicPr/>
          <p:nvPr/>
        </p:nvPicPr>
        <p:blipFill>
          <a:blip r:embed="rId1"/>
          <a:stretch/>
        </p:blipFill>
        <p:spPr>
          <a:xfrm>
            <a:off x="5076720" y="1557360"/>
            <a:ext cx="38102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UE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 Србији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24000" y="1197000"/>
            <a:ext cx="83628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нтидопинг агенција Републике Србије је крајем 2015. године у својој евиденцији обележила пријаву двест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200)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TUE, то јест изузетака за терапеутску употреб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5" descr="Ð ÐµÐ·ÑÐ»ÑÐ°Ñ ÑÐ»Ð¸ÐºÐ° Ð·Ð° Therapeutic Use Exemptions (TUEs)"/>
          <p:cNvPicPr/>
          <p:nvPr/>
        </p:nvPicPr>
        <p:blipFill>
          <a:blip r:embed="rId1"/>
          <a:stretch/>
        </p:blipFill>
        <p:spPr>
          <a:xfrm>
            <a:off x="1547640" y="2349360"/>
            <a:ext cx="6147000" cy="43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нализа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TUE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 Србији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(АДАС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8360" y="148428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Број пријав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E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оком година је увелико варирао и највећи број је забележен 2010. и 2011. године, када је локална примена глукокортикостерида и бета-2 агониста захтевала пријаву декларације о употреби (више није у употреби, а обухватала је скраћен процес добијањ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E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 одређене лекове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908000" y="3213000"/>
            <a:ext cx="6023160" cy="32720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4"/>
          <p:cNvSpPr/>
          <p:nvPr/>
        </p:nvSpPr>
        <p:spPr>
          <a:xfrm>
            <a:off x="614520" y="6237360"/>
            <a:ext cx="365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Број пријав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E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оком година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нализа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TUE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 Србији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(АДАС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8360" y="184464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д 2007. године, однос мушкараца и жена који су пријављивали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UE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носи 66% наспрам 33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сечна старост спортиста у тренутку пријаве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TUE била је 25 ± 7, а опсег година се кретао од 14 до 6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619280" y="3645000"/>
            <a:ext cx="6102360" cy="21207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4"/>
          <p:cNvSpPr/>
          <p:nvPr/>
        </p:nvSpPr>
        <p:spPr>
          <a:xfrm>
            <a:off x="2854440" y="6093000"/>
            <a:ext cx="255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ријава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UE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рема по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нализа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TUE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 Србији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(АДАС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90600" y="1412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Пет спортова (од укупно 26) који су имали највећи број пријава TUE од 2007. године јесу: кошарка, фудбал, веслање, рвање и ватерпол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Разлог за овакву расподелу налазимо превасходно у масовности тих спортова у Србији, али и у нивоу такмичења на које ови спортисти одлаз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Учествовање на светским и међународним такмичењима подразумева и строго поштовање правила која се тичу пријаве T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нализа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TUE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 Србији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(АДАС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rcRect l="5999" t="0" r="0" b="0"/>
          <a:stretch/>
        </p:blipFill>
        <p:spPr>
          <a:xfrm>
            <a:off x="826920" y="2276640"/>
            <a:ext cx="7302600" cy="414972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5"/>
          <p:cNvSpPr/>
          <p:nvPr/>
        </p:nvSpPr>
        <p:spPr>
          <a:xfrm>
            <a:off x="2218680" y="1700280"/>
            <a:ext cx="47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рој пријављених TUE у Србији по спортов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нализа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TUE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 Србији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(АДАС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16000" y="2060640"/>
            <a:ext cx="87120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Најзаступљеније дијагнозе због којих су спортисти морали да пријаве TUE биле су из групе инфламаторних стања локомоторног апарата, од тога 17% ентезитиси, тендинитиси и фасцитис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Астма и лумбални синдром се налазе на другом и трећем месту по броју пријава TUE с учесталошћу од 14% и 11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нализа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TUE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 Србији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(АДАС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7156440" cy="48258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5"/>
          <p:cNvSpPr/>
          <p:nvPr/>
        </p:nvSpPr>
        <p:spPr>
          <a:xfrm>
            <a:off x="468360" y="141300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дицинска стања која су захтевала пријаву T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216000" y="1844640"/>
            <a:ext cx="8712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нализа 200 TUE показала је статистику о којој представници АДАС говоре годинама уназа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Зло)употреба системских гликокортикоида је разлог због којег су спортисти најчешће морали да пријаве T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Бетаметазон, дексаметазон и метилпреднизолон су три најчешће забрањене супстанце које лекари преписују као део терапије у лечењу спортиста и налазе се у преко 50% свих TUE прија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82296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нализа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TUE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 Србији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(АДАС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2T07:24:21Z</dcterms:created>
  <dc:creator>Vlada Jakovljevic</dc:creator>
  <dc:description/>
  <dc:language>en-US</dc:language>
  <cp:lastModifiedBy>Vladimir Jakovljevic</cp:lastModifiedBy>
  <dcterms:modified xsi:type="dcterms:W3CDTF">2018-12-04T07:15:19Z</dcterms:modified>
  <cp:revision>73</cp:revision>
  <dc:subject/>
  <dc:title>Демијелинизационе болести Мијастенија гравис</dc:title>
</cp:coreProperties>
</file>